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A4D-2503-4410-9E42-4BFD5173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87A-A5B7-4BC5-B086-EE3D129F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EE1-A12E-4C02-B121-3498346F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F8E-FF9A-4A72-BF43-3C06C31B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221A-A5E2-4F76-8351-E9D147FE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0EAF-FEF2-4B61-BFE4-A8F5DE98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39C9-7933-47F6-B19E-54AF602D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7DB-2E5F-4153-81EE-6F3C8DFE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763-0E2E-49E7-8ED4-A8F195FB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2FEC-3B95-4E4A-B39A-DCBE1360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6EC4-C748-4F22-B11B-954520CD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A88-7DF4-4618-8049-2BB6F5C8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827-9B91-40C0-8E21-78D2732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44A6-0540-4C4E-8D6C-3B37DA3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BE1E-37C4-4EA5-9AAE-2AE63140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799F-D093-476C-88CE-50DBABD4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00C0-F895-49D9-B1A6-D656EE16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BC8-7511-4D91-A1AA-36C04227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CC7-E211-4D68-A347-1143A9B0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E37-5AF8-4F4B-90AF-B6AA1314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FE1-F785-4489-B1F4-1B318C88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12D-15C2-48D7-A975-FE974D84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80B-68DC-4571-9CA8-6478F56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9F9-FCB6-457C-A58E-29FD803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9A64-28C0-4BE0-A790-DE9464764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7D28-203D-4331-8BAD-D685AE83F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468360" y="285840"/>
            <a:ext cx="7991280" cy="6119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58920" y="600120"/>
            <a:ext cx="619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Propisi"/>
              </a:rPr>
              <a:t>Урок русского язы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Propisi"/>
              </a:rPr>
              <a:t>Тема: Части реч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522440" y="3909960"/>
            <a:ext cx="6481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Начальная школа</a:t>
            </a:r>
            <a:r>
              <a:rPr b="0" lang="en-US" sz="4400" spc="-1" strike="noStrike">
                <a:solidFill>
                  <a:srgbClr val="ffffff"/>
                </a:solidFill>
                <a:latin typeface="Propisi"/>
              </a:rPr>
              <a:t>  21  </a:t>
            </a: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ве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ropis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2"/>
          <a:stretch/>
        </p:blipFill>
        <p:spPr>
          <a:xfrm>
            <a:off x="468360" y="285840"/>
            <a:ext cx="8351640" cy="63961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116000" y="981000"/>
            <a:ext cx="7056360" cy="73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ropisi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ropisi"/>
              </a:rPr>
              <a:t>Рассмотреть внимательно рисунок на с. 146-14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Propisi"/>
              </a:rPr>
              <a:t>Выполнить упр. 4 с. 14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539640" y="242100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700360" y="148428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40000" y="292428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95640" y="4724280"/>
            <a:ext cx="35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7"/>
          <p:cNvCxnSpPr/>
          <p:nvPr/>
        </p:nvCxnSpPr>
        <p:spPr>
          <a:xfrm flipV="1">
            <a:off x="1403280" y="2133000"/>
            <a:ext cx="1224720" cy="1011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Прямая со стрелкой 9"/>
          <p:cNvCxnSpPr/>
          <p:nvPr/>
        </p:nvCxnSpPr>
        <p:spPr>
          <a:xfrm>
            <a:off x="1511280" y="3432240"/>
            <a:ext cx="82944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Прямая со стрелкой 11"/>
          <p:cNvCxnSpPr/>
          <p:nvPr/>
        </p:nvCxnSpPr>
        <p:spPr>
          <a:xfrm>
            <a:off x="1403280" y="3645000"/>
            <a:ext cx="937440" cy="122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2"/>
          <a:stretch/>
        </p:blipFill>
        <p:spPr>
          <a:xfrm>
            <a:off x="468360" y="285840"/>
            <a:ext cx="8351640" cy="63961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116000" y="981000"/>
            <a:ext cx="7056360" cy="79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Презентацию к уроку подгото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Коробова Анна Геннадь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Учитель начальных кла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ropisi"/>
              </a:rPr>
              <a:t>МБОУ СОШ № 17 г. Ковров Владимирская обл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а АБ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www.shkola-abv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250920" y="3616200"/>
            <a:ext cx="2232000" cy="31194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258920" y="476280"/>
            <a:ext cx="756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день жизни прибавляет частицу мудрост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3"/>
          <a:stretch/>
        </p:blipFill>
        <p:spPr>
          <a:xfrm>
            <a:off x="6227640" y="42228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809640" y="549360"/>
            <a:ext cx="7794720" cy="596736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1547640" y="1125360"/>
            <a:ext cx="65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ropisi"/>
              </a:rPr>
              <a:t>Двенадцатое декабр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ropisi"/>
              </a:rPr>
              <a:t>Классная работ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539640" y="341280"/>
            <a:ext cx="8209080" cy="60642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042920" y="981000"/>
            <a:ext cx="72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ropisi"/>
              </a:rPr>
              <a:t>П п  Пп  Пп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Propisi"/>
              </a:rPr>
              <a:t>Пм по пр пф по пл по пг пи п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908000" y="4869000"/>
            <a:ext cx="55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000"/>
                </a:solidFill>
                <a:latin typeface="Propisi"/>
              </a:rPr>
              <a:t>морфолог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611280" y="18900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ествитель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ыпае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 прилагательны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школьный день при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али м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стоимен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ь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ислитель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м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ученье, без сомн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иматься надо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реч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доро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аем мы привы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циплину и реж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 ни у нас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их надо повтор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 этом не лен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и часу не тер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школы, как извес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катаемся в са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особенно умест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ждоме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х и 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4" descr=""/>
          <p:cNvPicPr/>
          <p:nvPr/>
        </p:nvPicPr>
        <p:blipFill>
          <a:blip r:embed="rId2"/>
          <a:stretch/>
        </p:blipFill>
        <p:spPr>
          <a:xfrm>
            <a:off x="3419640" y="26028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0" name="Стрелка вниз 8"/>
          <p:cNvSpPr/>
          <p:nvPr/>
        </p:nvSpPr>
        <p:spPr>
          <a:xfrm rot="3613800">
            <a:off x="2988360" y="2154600"/>
            <a:ext cx="431640" cy="11188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14"/>
          <p:cNvSpPr/>
          <p:nvPr/>
        </p:nvSpPr>
        <p:spPr>
          <a:xfrm rot="18387600">
            <a:off x="4939200" y="2191320"/>
            <a:ext cx="432000" cy="11192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25320" y="29955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5076720" y="301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2" descr=""/>
          <p:cNvPicPr/>
          <p:nvPr/>
        </p:nvPicPr>
        <p:blipFill>
          <a:blip r:embed="rId3"/>
          <a:stretch/>
        </p:blipFill>
        <p:spPr>
          <a:xfrm>
            <a:off x="3125880" y="36450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50920" y="189000"/>
          <a:ext cx="8569080" cy="1066680"/>
        </p:xfrm>
        <a:graphic>
          <a:graphicData uri="http://schemas.openxmlformats.org/drawingml/2006/table">
            <a:tbl>
              <a:tblPr/>
              <a:tblGrid>
                <a:gridCol w="4248000"/>
                <a:gridCol w="4321080"/>
              </a:tblGrid>
              <a:tr h="1068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ые части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ебные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реч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3"/>
          <p:cNvSpPr/>
          <p:nvPr/>
        </p:nvSpPr>
        <p:spPr>
          <a:xfrm>
            <a:off x="1908000" y="5732640"/>
            <a:ext cx="367200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составить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572000" y="5732640"/>
            <a:ext cx="4032360" cy="94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ьзя составить 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81080" y="5732640"/>
            <a:ext cx="367020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поставит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111640" y="5310360"/>
            <a:ext cx="4032360" cy="94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льзя поставить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440000" y="5373720"/>
            <a:ext cx="367164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яются членам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183280" y="5904000"/>
            <a:ext cx="3960720" cy="94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являются членам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6 0.04583 L -0.2007 -0.62616 E">
                                      <p:cBhvr>
                                        <p:cTn id="3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3541 L 0.04722 -0.63658 E">
                                      <p:cBhvr>
                                        <p:cTn id="3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49 0.09444 L -0.10539 0.09444 C -0.05382 0.09444 0.00989 -0.05649 0.00989 -0.17871 L 0.00989 -0.45162 E">
                                      <p:cBhvr>
                                        <p:cTn id="4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1022E-016 L 0.00573 1.11022E-016 C 0.00851 1.11022E-016 0.01181 -0.10995 0.01181 -0.19861 L 0.01181 -0.3963 E">
                                      <p:cBhvr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04 0.08796 L -0.10226 -0.15347 E">
                                      <p:cBhvr>
                                        <p:cTn id="4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53 0.04213 L -0.01545 -0.23078 E">
                                      <p:cBhvr>
                                        <p:cTn id="5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684360" y="40464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665440" y="6429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572000" y="4046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443640" y="6429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826920" y="278136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2665440" y="3284640"/>
            <a:ext cx="14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219640" y="3284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7236000" y="2997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968400" y="12600"/>
            <a:ext cx="6985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 ... небу  гуля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…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тучу  забежа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янул  заинька  …  окн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 заиньке  тем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темно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  …  вор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 …  улицу попал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лудился   …   проп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457200" y="5877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835280" y="5877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2556000" y="5661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3695760" y="57294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703760" y="5729400"/>
            <a:ext cx="109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6103800" y="57434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7327800" y="5661000"/>
            <a:ext cx="98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8317080" y="5373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2.59259E-006 L 0.27274 -0.8713 E">
                                      <p:cBhvr>
                                        <p:cTn id="9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0.02338 L -0.10243 -0.77453 E">
                                      <p:cBhvr>
                                        <p:cTn id="9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01042 L -0.09045 -0.74305 E">
                                      <p:cBhvr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19045 -0.64791 E">
                                      <p:cBhvr>
                                        <p:cTn id="10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-0.42535 -0.36759 E">
                                      <p:cBhvr>
                                        <p:cTn id="10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2 -0.01042 L -0.30521 -0.36644 E">
                                      <p:cBhvr>
                                        <p:cTn id="11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57587 -0.26018 E">
                                      <p:cBhvr>
                                        <p:cTn id="117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44878 -0.1155 E">
                                      <p:cBhvr>
                                        <p:cTn id="12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Борис</cp:lastModifiedBy>
  <dcterms:modified xsi:type="dcterms:W3CDTF">2015-02-03T16:01:24Z</dcterms:modified>
  <cp:revision>149</cp:revision>
  <dc:subject/>
  <dc:title>Слайд 1</dc:title>
</cp:coreProperties>
</file>